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44E5-1CF4-43D7-A0A9-26ACE1E19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6D1-4D3F-4A4C-85F5-C2105CD0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CCD-D902-482A-B77B-B9926FC1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C7BA-659E-4A27-8043-0BEE4823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F6A-BBEE-4D87-A160-88716E5A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6D6E-8CE4-4A87-BC86-E47B4A94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7A9-6BF8-428F-812B-D5AD60C7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49C-3977-4756-90E0-0558BFC0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5F3-3859-4BB3-8B0A-1C9B1C1A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27D-C6F7-4821-BCDE-7150BF62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00F-D314-47B1-8540-70F4143D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44A-E30A-4EA9-88A2-1A9AF385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60B-DAA9-40FC-9270-1306ED7B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122-63D0-40E3-8485-74C5D27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ECA-F373-40A0-ACD1-5EF7973F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D6D-7734-4714-9FD2-0E5C1325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E14-1820-4F36-9FAB-A8F72E18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DB2-0BE8-437A-AF5A-CA3F6118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D69-05E3-4E11-BB93-C1E2E37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9C2-D7F9-41B0-B522-1DBE6FE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40C-4712-4FA6-A1B4-ADDD99C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C0C-C52B-42EE-8965-152C8D02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28600" y="228600"/>
            <a:ext cx="87631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Team-Based Learning in Large-Enrollment Introductory Biology Cou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Jeff Carmi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1055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228600"/>
            <a:ext cx="876312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After ten years of lecturing….. a need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Teacher “burnou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tudents not really enga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ow classroom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Very few student-generate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Crowded theatre-style class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NO NAME:BLC2011:mov.mov" descr="/Volumes/NO NAME/BLC2011/mov.mov"/>
          <p:cNvPicPr/>
          <p:nvPr/>
        </p:nvPicPr>
        <p:blipFill>
          <a:blip r:embed="rId1"/>
          <a:stretch/>
        </p:blipFill>
        <p:spPr>
          <a:xfrm>
            <a:off x="-1521000" y="-144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763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TBL Course Element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Learning Assignment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Individual and team-based quizzes (readiness assessment tests-- RA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Appea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Ex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228600"/>
            <a:ext cx="87631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Positive Impacts of TB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igher exam sc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igher responses on student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More positive energy in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tudents more willing to question/discu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7631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Bold"/>
              </a:rPr>
              <a:t>Pitfalls/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Some up front developmen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Not all students appreciate 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Have to give up “lecture tim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Not all students contribute equally to the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  <a:ea typeface="ＭＳ Ｐゴシック"/>
              </a:rPr>
              <a:t>Potential for easy “cheating” during quiz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1676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Bold"/>
              </a:rPr>
              <a:t>Team-Based Learning (TB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teambased learning cover"/>
          <p:cNvPicPr/>
          <p:nvPr/>
        </p:nvPicPr>
        <p:blipFill>
          <a:blip r:embed="rId1"/>
          <a:stretch/>
        </p:blipFill>
        <p:spPr>
          <a:xfrm>
            <a:off x="3276720" y="1295280"/>
            <a:ext cx="2246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ppeals"/>
          <p:cNvPicPr/>
          <p:nvPr/>
        </p:nvPicPr>
        <p:blipFill>
          <a:blip r:embed="rId1"/>
          <a:stretch/>
        </p:blipFill>
        <p:spPr>
          <a:xfrm>
            <a:off x="228600" y="204840"/>
            <a:ext cx="84582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2:27:10Z</dcterms:created>
  <dc:creator>Jeff/Carmichael</dc:creator>
  <dc:description/>
  <dc:language>en-US</dc:language>
  <cp:lastModifiedBy>Robin Heyden</cp:lastModifiedBy>
  <dcterms:modified xsi:type="dcterms:W3CDTF">2011-03-12T17:20:10Z</dcterms:modified>
  <cp:revision>6</cp:revision>
  <dc:subject/>
  <dc:title>Doe this movie work?</dc:title>
</cp:coreProperties>
</file>